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0.png" ContentType="image/png"/>
  <Override PartName="/ppt/media/image5.png" ContentType="image/png"/>
  <Override PartName="/ppt/media/image4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24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26.png" ContentType="image/png"/>
  <Override PartName="/ppt/media/image2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9D03-4665-4942-A7F3-BA9385EEA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460B-D12F-455E-B258-38291233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9DEC-B325-40B4-AA63-3D916CCD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CFC4-C48E-4F7B-9CF1-F6BC8F0AC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86290-86F5-4B0C-97B4-1BFBF222A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03C80-68E4-47F2-B055-D72CB565A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2D653-A425-440F-90BD-AAF465A23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4A0C1-C22E-4510-8340-D269C4034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B40E6-9CCD-49CF-A3C8-9778F4720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7B582-6980-4C7B-9C8B-1863AE09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4CCC4-76F5-49E3-94B0-3A0774F1A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FE1B-F03C-42DC-91AD-E4EDB1545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862D-C68B-45AC-8D18-E3297CAFC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C829-965B-4C6F-9A90-42F2195C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E8448-70DA-4E83-B90E-00970EB4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89F5-F4CA-4E44-A303-421C313CF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600A-A169-4602-80F0-47E5280F7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F0192-7F3E-491C-8D31-1E39DB20C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CFB022-5DC2-4AB7-8E87-05AC637C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51D7-2A52-4080-A796-D2707F09F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FD903-3740-4CBD-AE48-65F6CFC7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570EB-43F9-4006-9C8F-E71D734B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C1CE-3837-44CF-9B84-9137C3780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C7161-6743-402D-A3D3-90843DBB0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33CBF-1797-4C7C-80B1-84ADF11E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3F8D6D-FB0B-4D8B-AD6D-D33FF0FC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22AFBD-E4CF-4CA4-918C-6EA51E51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C992E-3E11-4B76-B957-5EECF8F5E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A4BCEA-3AEB-44DC-B907-F2F411904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DA9BD-444C-43DE-95F4-03EE9364A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AE573D-3E56-45B9-B678-25F94C1DC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90EFE4-72EF-41C7-8A21-97780796F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AC014-DB1A-4E19-9745-F4077FC02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4971-2F60-4D55-BB34-2E0B8E0A2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0C9FA6-A818-4C5F-9C77-97B2D107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CA6DAD-5230-4BF0-8128-4C527B03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810157-77AE-4003-B4ED-F3A028731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B3AA71-D162-4473-A337-755800845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58D87-8D15-4A78-8D7F-2455B476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28CB3-A910-4145-9D66-831E6BD8A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3E3B65-BE88-442B-8D00-260D7630F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36962-D112-40E3-AA8C-63B81FA6A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E0AB08-1AAB-4C75-A6AD-6BD531AB1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1A840-0332-4CDB-BE38-2CD95A2C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BB9D-05C8-4B1B-87E7-3B250A980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C9A438-25B0-4425-8E1B-1B8FA7121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F6AE4-7FAC-491B-966C-C056EDB49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B4A4D6-29D0-4E9A-A5C4-752ABB33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E6FBF-52CD-49BC-9275-18DA76A1E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56C5E-1193-4A2E-B384-2050A0F68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592AC2-5BC2-4E05-86E6-9F4B52C8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C42A1-3C0F-4885-8705-98B94328F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DC7F7-EA48-41E8-9487-A504EE6A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100C92-EB72-475C-9B99-544480019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A8DC6-56D6-4D9B-9ED2-C842F8599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1D0A-1D29-4501-8A83-8599288B2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6C65D-6B30-437E-B201-9BCBDFCF3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9212-7FEF-4A18-A6E6-D5C77EC6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3CAF9-D032-48B8-A9E4-0CA8A2A8A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BFA-D4B0-44BA-AE61-4714386F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F06B8-D1FF-4480-B082-405A09A2EEA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45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07190-AF61-4610-A197-D242C49E9944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90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0A7F-7A59-45F4-AE23-CBBA14967C18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E6B6-1CCF-472E-8ABB-96682C76BA1D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920D-89D4-4233-A822-FEC1DD795AAB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s://learningapps.org/watch?v=pcbk2zzp323" TargetMode="Externa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Rectangle 2" descr=""/>
          <p:cNvPicPr/>
          <p:nvPr/>
        </p:nvPicPr>
        <p:blipFill>
          <a:blip r:embed="rId1"/>
          <a:stretch/>
        </p:blipFill>
        <p:spPr>
          <a:xfrm>
            <a:off x="469800" y="334800"/>
            <a:ext cx="8363160" cy="61214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692360" y="1773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2" name="WordArt 8"/>
          <p:cNvSpPr txBox="1"/>
          <p:nvPr/>
        </p:nvSpPr>
        <p:spPr>
          <a:xfrm>
            <a:off x="1403280" y="260280"/>
            <a:ext cx="6026400" cy="4668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0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80 лет 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Кемеровской области</a:t>
            </a:r>
            <a:endParaRPr b="1" lang="en-US" sz="5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7582680" y="64882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7-883-6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Ink 4" descr=""/>
          <p:cNvPicPr/>
          <p:nvPr/>
        </p:nvPicPr>
        <p:blipFill>
          <a:blip r:embed="rId2"/>
          <a:stretch/>
        </p:blipFill>
        <p:spPr>
          <a:xfrm>
            <a:off x="9056520" y="-77760"/>
            <a:ext cx="157320" cy="156960"/>
          </a:xfrm>
          <a:prstGeom prst="rect">
            <a:avLst/>
          </a:prstGeom>
          <a:ln w="0">
            <a:noFill/>
          </a:ln>
        </p:spPr>
      </p:pic>
      <p:sp>
        <p:nvSpPr>
          <p:cNvPr id="225" name="TextBox 1"/>
          <p:cNvSpPr/>
          <p:nvPr/>
        </p:nvSpPr>
        <p:spPr>
          <a:xfrm>
            <a:off x="1042920" y="5445000"/>
            <a:ext cx="626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26 января 1943-2023 80 лет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то из летчиков-космонавтов жил в Кузбассе?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4" name="Рисунок 2" descr=""/>
          <p:cNvPicPr/>
          <p:nvPr/>
        </p:nvPicPr>
        <p:blipFill>
          <a:blip r:embed="rId2"/>
          <a:stretch/>
        </p:blipFill>
        <p:spPr>
          <a:xfrm>
            <a:off x="324000" y="2662200"/>
            <a:ext cx="851688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178920" y="320400"/>
            <a:ext cx="7239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 Кузбассе живет почетный гражданин Берлина. За что он удостоен этого звания?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Picture 2" descr="https://s0.slide-share.ru/s_slide/cbbf1b2e7e2a2e62e66db4530def0703/7f1bdd31-e989-44e2-8b6b-30faa9bc9178.jpeg"/>
          <p:cNvPicPr/>
          <p:nvPr/>
        </p:nvPicPr>
        <p:blipFill>
          <a:blip r:embed="rId1"/>
          <a:stretch/>
        </p:blipFill>
        <p:spPr>
          <a:xfrm>
            <a:off x="461880" y="1628640"/>
            <a:ext cx="6599160" cy="49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Rectangle 2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5" descr="Coat-of-arms-of-Kemerovo-Oblast"/>
          <p:cNvPicPr/>
          <p:nvPr/>
        </p:nvPicPr>
        <p:blipFill>
          <a:blip r:embed="rId2"/>
          <a:stretch/>
        </p:blipFill>
        <p:spPr>
          <a:xfrm>
            <a:off x="1908000" y="1268280"/>
            <a:ext cx="5185080" cy="53294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5"/>
          <p:cNvSpPr/>
          <p:nvPr/>
        </p:nvSpPr>
        <p:spPr>
          <a:xfrm>
            <a:off x="8011080" y="65721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7-883-6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Rectangle 8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2" descr="Flag-of-Kemerovo-oblast"/>
          <p:cNvPicPr/>
          <p:nvPr/>
        </p:nvPicPr>
        <p:blipFill>
          <a:blip r:embed="rId2"/>
          <a:stretch/>
        </p:blipFill>
        <p:spPr>
          <a:xfrm>
            <a:off x="457200" y="1773360"/>
            <a:ext cx="6350040" cy="4319640"/>
          </a:xfrm>
          <a:prstGeom prst="rect">
            <a:avLst/>
          </a:prstGeom>
          <a:ln w="0">
            <a:noFill/>
          </a:ln>
        </p:spPr>
      </p:pic>
      <p:sp>
        <p:nvSpPr>
          <p:cNvPr id="253" name="TextBox 6"/>
          <p:cNvSpPr/>
          <p:nvPr/>
        </p:nvSpPr>
        <p:spPr>
          <a:xfrm>
            <a:off x="7653960" y="6715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7-883-6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605772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Картофел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голь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рест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семьдесят лет!     -    Много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осемьдесят лет?     -    Мало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Дорогу Кузбассу! -  Дорогу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лава Кузбассу!     -  Слава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36680" y="92844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28960" indent="-228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1.Замечательное время,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 днём рождения, Кузбасс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ашу область, наше имя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Знают все в стране сейчас.  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2.В каждой школе, в каждом классе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Есть надежда у ребя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Жить в прославленном Кузбассе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се мечтают, все хотят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3. Чтобы дом был полной чашей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Для друзей, для нас с тобой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 юбилеем, область наша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 юбилеем, край родной!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28960" indent="-22896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de66"/>
                </a:solidFill>
                <a:uFillTx/>
                <a:latin typeface="Trebuchet MS"/>
                <a:hlinkClick r:id="rId1"/>
              </a:rPr>
              <a:t>https://learningapps.org/watch?v=pcbk2zzp323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39668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3b7e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b23b7e"/>
                </a:solidFill>
                <a:latin typeface="Trebuchet MS"/>
              </a:rPr>
              <a:t>Мир не велик, хотя и бесконечен,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3b7e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b23b7e"/>
                </a:solidFill>
                <a:latin typeface="Trebuchet MS"/>
              </a:rPr>
              <a:t>Не торопись в иных краях пожить: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3b7e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b23b7e"/>
                </a:solidFill>
                <a:latin typeface="Trebuchet MS"/>
              </a:rPr>
              <a:t>В краях иных душе питаться нечем -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3b7e"/>
                </a:solidFill>
                <a:latin typeface="Trebuchet MS"/>
              </a:rPr>
              <a:t> </a:t>
            </a:r>
            <a:r>
              <a:rPr b="0" lang="ru-RU" sz="3200" spc="-1" strike="noStrike">
                <a:solidFill>
                  <a:srgbClr val="b23b7e"/>
                </a:solidFill>
                <a:latin typeface="Trebuchet MS"/>
              </a:rPr>
              <a:t>Душа родной земле принадлежит.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b23b7e"/>
                </a:solidFill>
                <a:latin typeface="Trebuchet M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7" descr="95299"/>
          <p:cNvPicPr/>
          <p:nvPr/>
        </p:nvPicPr>
        <p:blipFill>
          <a:blip r:embed="rId1"/>
          <a:stretch/>
        </p:blipFill>
        <p:spPr>
          <a:xfrm>
            <a:off x="457200" y="392040"/>
            <a:ext cx="8229600" cy="5624640"/>
          </a:xfrm>
          <a:prstGeom prst="rect">
            <a:avLst/>
          </a:prstGeom>
          <a:ln w="0">
            <a:noFill/>
          </a:ln>
        </p:spPr>
      </p:pic>
      <p:sp>
        <p:nvSpPr>
          <p:cNvPr id="267" name="WordArt 8"/>
          <p:cNvSpPr txBox="1"/>
          <p:nvPr/>
        </p:nvSpPr>
        <p:spPr>
          <a:xfrm>
            <a:off x="755640" y="1484280"/>
            <a:ext cx="80884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МОЯ ЛЮБИМАЯ РОДИНА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268" name="TextBox 5"/>
          <p:cNvSpPr/>
          <p:nvPr/>
        </p:nvSpPr>
        <p:spPr>
          <a:xfrm>
            <a:off x="7011000" y="614376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77-883-67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57200" y="1609200"/>
            <a:ext cx="723888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7242120" cy="1457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Trebuchet MS"/>
              </a:rPr>
              <a:t>Города Кузбасса (20):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Анжеро-Судженск       Калтан          Мариинск             Осинники       Таштагол Белово                      Кемерово       Междуреченск     Полысаево     Тайга Березовский                 Киселевск      Мыски                 Прокопьевск   Топки Гурьевск            Ленинск-Кузнецкий Новокузнецк        Салаир            Юрг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Заголовок 1" descr=""/>
          <p:cNvPicPr/>
          <p:nvPr/>
        </p:nvPicPr>
        <p:blipFill>
          <a:blip r:embed="rId1"/>
          <a:stretch/>
        </p:blipFill>
        <p:spPr>
          <a:xfrm>
            <a:off x="426960" y="189000"/>
            <a:ext cx="8259840" cy="14572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 txBox="1"/>
          <p:nvPr/>
        </p:nvSpPr>
        <p:spPr>
          <a:xfrm>
            <a:off x="571680" y="1928880"/>
            <a:ext cx="8115120" cy="43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Томская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Новосибирская области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Алтайский и Красноярский края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Хакассия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Горно-Алтайская республи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Заголовок 1" descr=""/>
          <p:cNvPicPr/>
          <p:nvPr/>
        </p:nvPicPr>
        <p:blipFill>
          <a:blip r:embed="rId1"/>
          <a:stretch/>
        </p:blipFill>
        <p:spPr>
          <a:xfrm>
            <a:off x="457200" y="6480"/>
            <a:ext cx="7242120" cy="145728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428400" y="1856880"/>
            <a:ext cx="8258040" cy="445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ия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Яя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Иня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Чулым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Ус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Мрассу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ондома, Чумаш, Серта, Бельсу,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Тайдон и др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72960" y="1268280"/>
            <a:ext cx="732312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 давних пор живу в Сибири,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Без Сибири не могу,   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амым пышным мехом в мире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Я прославил всю тайгу.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Если даже буду хворым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Мне не нужно докторов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Съем лукошко мухоморов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Окажусь опять здоров                                 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Позапасливее всех я: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У меня, друзья, щека -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Вроде сумки для орехов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Или, скажем, вещмешка.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64600" indent="-26460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орон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орок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ойк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тетерев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глухарь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рябчик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белая и серая куропатк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воробьи, дятлы, синица гаечка, поползень, снегирь, щегол, клест, чечетка, оляпк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Заголовок 1" descr=""/>
          <p:cNvPicPr/>
          <p:nvPr/>
        </p:nvPicPr>
        <p:blipFill>
          <a:blip r:embed="rId1"/>
          <a:stretch/>
        </p:blipFill>
        <p:spPr>
          <a:xfrm>
            <a:off x="457200" y="324000"/>
            <a:ext cx="7242120" cy="113976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 txBox="1"/>
          <p:nvPr/>
        </p:nvSpPr>
        <p:spPr>
          <a:xfrm>
            <a:off x="457200" y="1609560"/>
            <a:ext cx="74008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ая высокая точка родного края?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е большое озеро края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ми первыми весной цветут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е выносливые из птиц? Из рыб?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ая крупная из оседлых птиц? Из перелетных?</a:t>
            </a:r>
            <a:r>
              <a:rPr b="0" i="1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е красивое, душистое и медоносное дерево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ое древнее растение Кузбасса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й маленький на земле хищник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й многочисленный грызун наших лесов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rebuchet MS"/>
              </a:rPr>
              <a:t>Самый крупный грызун?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000"/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2000"/>
                                        <p:tgtEl>
                                          <p:spTgt spid="2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3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3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23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3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Заголовок 1" descr=""/>
          <p:cNvPicPr/>
          <p:nvPr/>
        </p:nvPicPr>
        <p:blipFill>
          <a:blip r:embed="rId1"/>
          <a:stretch/>
        </p:blipFill>
        <p:spPr>
          <a:xfrm>
            <a:off x="139680" y="96840"/>
            <a:ext cx="7864560" cy="13669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 txBox="1"/>
          <p:nvPr/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rebuchet MS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Пихт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сосна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ель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кедр, 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rebuchet MS"/>
              </a:rPr>
              <a:t>лиственница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1T15:36:11Z</dcterms:created>
  <dc:creator>User</dc:creator>
  <dc:description/>
  <dc:language>en-US</dc:language>
  <cp:lastModifiedBy>Admin</cp:lastModifiedBy>
  <dcterms:modified xsi:type="dcterms:W3CDTF">2023-02-08T01:58:11Z</dcterms:modified>
  <cp:revision>48</cp:revision>
  <dc:subject/>
  <dc:title>70 лет Кемеровской области</dc:title>
</cp:coreProperties>
</file>